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4876-C544-4DB5-9161-841B8314C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3565-6D9A-41D9-AAA7-A06C7F7A8C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ABC-248E-40A9-A254-06C04C5F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409-A427-45B4-A5B9-D0DFC1D8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5AD-8575-4EF6-9187-F9146EC3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2AD-2452-4598-BBD7-EAB17CB0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04A8-C0DB-484D-899D-2CA70770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A193-065E-4DEC-B4FB-E1C8720F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6526-B645-4C6E-9927-610E840A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8BB2-D17B-4ED8-B7FF-2529A5E9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DC3E-983E-4A0C-B9A7-BD215396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5F56-E1D7-4F61-8B91-1985CA51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E957-6247-4B79-BE31-FD6319EC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A04-EEF8-4C81-B734-B4800ED3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5156-7EC0-4410-A4D5-3D476C83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6D75-3A4F-434D-AE09-168EC866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1DD2-5E2B-4CA1-BB9A-E50F49A1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0424-D69E-40DB-8610-5E3AC7C1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3918-F316-48A0-9BBB-C2B52E90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7CA-587A-463E-B819-8C063291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A3E-9671-42B7-AAB5-FE12E2C8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2CE-A7AD-40D5-9747-4710B9D8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46D-AEDE-48B7-82FF-969758F1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042-EFB3-4067-9053-635E6A57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2A4-9AED-4B29-9377-2BE4A06D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11E-5BA3-41CF-A452-2F78C7FC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3C39-5256-46F4-B8A9-77FCD6F8209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6605-AD1D-45C4-839A-2EFCB3C004A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2048040"/>
            <a:ext cx="8242560" cy="1055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6400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9 April 2010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Straight Connector 7"/>
          <p:cNvSpPr/>
          <p:nvPr/>
        </p:nvSpPr>
        <p:spPr>
          <a:xfrm>
            <a:off x="3749760" y="14428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traight Connector 9"/>
          <p:cNvSpPr/>
          <p:nvPr/>
        </p:nvSpPr>
        <p:spPr>
          <a:xfrm>
            <a:off x="3749760" y="18241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rc 10"/>
          <p:cNvSpPr/>
          <p:nvPr/>
        </p:nvSpPr>
        <p:spPr>
          <a:xfrm>
            <a:off x="3902040" y="1290600"/>
            <a:ext cx="533520" cy="685800"/>
          </a:xfrm>
          <a:custGeom>
            <a:avLst/>
            <a:gdLst>
              <a:gd name="textAreaLeft" fmla="*/ 266760 w 533520"/>
              <a:gd name="textAreaRight" fmla="*/ 533880 w 533520"/>
              <a:gd name="textAreaTop" fmla="*/ 0 h 685800"/>
              <a:gd name="textAreaBottom" fmla="*/ 685440 h 685800"/>
            </a:gdLst>
            <a:ahLst/>
            <a:rect l="textAreaLeft" t="textAreaTop" r="textAreaRight" b="textAreaBottom"/>
            <a:pathLst>
              <a:path stroke="0" w="533400" h="685800">
                <a:moveTo>
                  <a:pt x="266700" y="0"/>
                </a:moveTo>
                <a:lnTo>
                  <a:pt x="266700" y="0"/>
                </a:lnTo>
                <a:arcTo wR="266700" hR="342900" stAng="-5400000" swAng="10651174"/>
                <a:lnTo>
                  <a:pt x="266700" y="342900"/>
                </a:lnTo>
                <a:close/>
              </a:path>
              <a:path fill="none" w="533400" h="685800">
                <a:moveTo>
                  <a:pt x="266700" y="0"/>
                </a:moveTo>
                <a:lnTo>
                  <a:pt x="266700" y="0"/>
                </a:lnTo>
                <a:arcTo wR="266700" hR="342900" stAng="-5400000" swAng="10651174"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rc 13"/>
          <p:cNvSpPr/>
          <p:nvPr/>
        </p:nvSpPr>
        <p:spPr>
          <a:xfrm>
            <a:off x="3749760" y="1290600"/>
            <a:ext cx="533160" cy="685800"/>
          </a:xfrm>
          <a:custGeom>
            <a:avLst/>
            <a:gdLst>
              <a:gd name="textAreaLeft" fmla="*/ 266760 w 533160"/>
              <a:gd name="textAreaRight" fmla="*/ 533520 w 533160"/>
              <a:gd name="textAreaTop" fmla="*/ 0 h 685800"/>
              <a:gd name="textAreaBottom" fmla="*/ 685440 h 685800"/>
            </a:gdLst>
            <a:ahLst/>
            <a:rect l="textAreaLeft" t="textAreaTop" r="textAreaRight" b="textAreaBottom"/>
            <a:pathLst>
              <a:path stroke="0" w="533400" h="685800">
                <a:moveTo>
                  <a:pt x="266700" y="0"/>
                </a:moveTo>
                <a:lnTo>
                  <a:pt x="266700" y="0"/>
                </a:lnTo>
                <a:arcTo wR="266700" hR="342900" stAng="-5400000" swAng="10651174"/>
                <a:lnTo>
                  <a:pt x="266700" y="342900"/>
                </a:lnTo>
                <a:close/>
              </a:path>
              <a:path fill="none" w="533400" h="685800">
                <a:moveTo>
                  <a:pt x="266700" y="0"/>
                </a:moveTo>
                <a:lnTo>
                  <a:pt x="266700" y="0"/>
                </a:lnTo>
                <a:arcTo wR="266700" hR="342900" stAng="-5400000" swAng="10651174"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16"/>
          <p:cNvSpPr/>
          <p:nvPr/>
        </p:nvSpPr>
        <p:spPr>
          <a:xfrm>
            <a:off x="4191120" y="1278000"/>
            <a:ext cx="974520" cy="384120"/>
          </a:xfrm>
          <a:custGeom>
            <a:avLst/>
            <a:gdLst/>
            <a:ahLst/>
            <a:rect l="l" t="t" r="r" b="b"/>
            <a:pathLst>
              <a:path w="975360" h="384048">
                <a:moveTo>
                  <a:pt x="0" y="9144"/>
                </a:moveTo>
                <a:cubicBezTo>
                  <a:pt x="126492" y="4572"/>
                  <a:pt x="252984" y="0"/>
                  <a:pt x="374904" y="27432"/>
                </a:cubicBezTo>
                <a:cubicBezTo>
                  <a:pt x="496824" y="54864"/>
                  <a:pt x="637032" y="120396"/>
                  <a:pt x="731520" y="173736"/>
                </a:cubicBezTo>
                <a:cubicBezTo>
                  <a:pt x="826008" y="227076"/>
                  <a:pt x="908304" y="312420"/>
                  <a:pt x="941832" y="347472"/>
                </a:cubicBezTo>
                <a:cubicBezTo>
                  <a:pt x="975360" y="382524"/>
                  <a:pt x="928116" y="381000"/>
                  <a:pt x="932688" y="38404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17"/>
          <p:cNvSpPr/>
          <p:nvPr/>
        </p:nvSpPr>
        <p:spPr>
          <a:xfrm>
            <a:off x="4191120" y="1662120"/>
            <a:ext cx="969840" cy="339840"/>
          </a:xfrm>
          <a:custGeom>
            <a:avLst/>
            <a:gdLst/>
            <a:ahLst/>
            <a:rect l="l" t="t" r="r" b="b"/>
            <a:pathLst>
              <a:path w="969264" h="339852">
                <a:moveTo>
                  <a:pt x="0" y="320040"/>
                </a:moveTo>
                <a:cubicBezTo>
                  <a:pt x="125730" y="329946"/>
                  <a:pt x="251460" y="339852"/>
                  <a:pt x="374904" y="320040"/>
                </a:cubicBezTo>
                <a:cubicBezTo>
                  <a:pt x="498348" y="300228"/>
                  <a:pt x="641604" y="254508"/>
                  <a:pt x="740664" y="201168"/>
                </a:cubicBezTo>
                <a:cubicBezTo>
                  <a:pt x="839724" y="147828"/>
                  <a:pt x="940308" y="36576"/>
                  <a:pt x="969264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Title 1" descr=""/>
          <p:cNvPicPr/>
          <p:nvPr/>
        </p:nvPicPr>
        <p:blipFill>
          <a:blip r:embed="rId2"/>
          <a:stretch/>
        </p:blipFill>
        <p:spPr>
          <a:xfrm>
            <a:off x="450720" y="2822400"/>
            <a:ext cx="8242560" cy="689040"/>
          </a:xfrm>
          <a:prstGeom prst="rect">
            <a:avLst/>
          </a:prstGeom>
          <a:ln w="0">
            <a:noFill/>
          </a:ln>
        </p:spPr>
      </p:pic>
      <p:sp>
        <p:nvSpPr>
          <p:cNvPr id="98" name="Subtitle 2"/>
          <p:cNvSpPr/>
          <p:nvPr/>
        </p:nvSpPr>
        <p:spPr>
          <a:xfrm>
            <a:off x="1371600" y="380988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menic Ca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ae P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niel Rey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C: Pass thru 1 NMO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X Gates Variation: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rger Tapered Buff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uffer Regener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 only loads buffe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otal = 308.18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4483080" cy="2870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4:1/2:1 MUX Vari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4:1 MUX = 49.79 (includes buffering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otal = 796.64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6002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TX Gate Vari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6(2INV + TX) =(306.4u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ith Decoder (65.62u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otal = 372.02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1981080" cy="2517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4952880" y="3886200"/>
            <a:ext cx="3286080" cy="2548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loads 1 INV, 2 AND = 14.49u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ass A (separately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Total = 430.74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assA (w/ Shifter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 3-input NANDs, 1 4-input OR, 3 inverter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Total = 465.08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457200" y="1895400"/>
            <a:ext cx="4038480" cy="3935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hart 3" descr=""/>
          <p:cNvPicPr/>
          <p:nvPr/>
        </p:nvPicPr>
        <p:blipFill>
          <a:blip r:embed="rId1"/>
          <a:stretch/>
        </p:blipFill>
        <p:spPr>
          <a:xfrm>
            <a:off x="3803760" y="2279520"/>
            <a:ext cx="6608520" cy="3683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4159080" cy="5029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2" name="Title 1" descr=""/>
          <p:cNvPicPr/>
          <p:nvPr/>
        </p:nvPicPr>
        <p:blipFill>
          <a:blip r:embed="rId3"/>
          <a:stretch/>
        </p:blipFill>
        <p:spPr>
          <a:xfrm>
            <a:off x="262080" y="268200"/>
            <a:ext cx="87058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739800" y="1523880"/>
            <a:ext cx="7566120" cy="4797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>
            <a:off x="4191120" y="18288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rea of 16 Gen1 MUXes:  7,271 µ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-3 Inver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-8 4-input AND g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-1 8-input OR g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4724280" y="2786040"/>
            <a:ext cx="3953160" cy="3386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152280" y="2786040"/>
            <a:ext cx="4145040" cy="3352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9" name="TextBox 5"/>
          <p:cNvSpPr/>
          <p:nvPr/>
        </p:nvSpPr>
        <p:spPr>
          <a:xfrm>
            <a:off x="800280" y="14479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mplemented Predecoding scheme (left) and simplified 8-input OR gate to series of 2-input NANDS and 2-input NORS (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1143000" y="1752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en2 MUX Technology had total area of 5,577.44 micromet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entire ALU would have had an area of 12,204.48 micromet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Chart 10" descr=""/>
          <p:cNvPicPr/>
          <p:nvPr/>
        </p:nvPicPr>
        <p:blipFill>
          <a:blip r:embed="rId2"/>
          <a:stretch/>
        </p:blipFill>
        <p:spPr>
          <a:xfrm>
            <a:off x="1517760" y="2511360"/>
            <a:ext cx="60832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7315200" cy="4865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5" name="TextBox 6"/>
          <p:cNvSpPr/>
          <p:nvPr/>
        </p:nvSpPr>
        <p:spPr>
          <a:xfrm>
            <a:off x="5562720" y="1981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7 2:1 MU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6 Buff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47" name="Chart 3" descr=""/>
          <p:cNvPicPr/>
          <p:nvPr/>
        </p:nvPicPr>
        <p:blipFill>
          <a:blip r:embed="rId2"/>
          <a:stretch/>
        </p:blipFill>
        <p:spPr>
          <a:xfrm>
            <a:off x="1596960" y="2584440"/>
            <a:ext cx="6042240" cy="36831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143000" y="17524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en3 MUX Technology had total area of 2,022 micrometer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entire ALU now had an area of 8,649 micromet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hart 4" descr=""/>
          <p:cNvPicPr/>
          <p:nvPr/>
        </p:nvPicPr>
        <p:blipFill>
          <a:blip r:embed="rId1"/>
          <a:stretch/>
        </p:blipFill>
        <p:spPr>
          <a:xfrm>
            <a:off x="-6480" y="755640"/>
            <a:ext cx="8937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892160" y="22860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892160" y="22860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1" name="Rectangle 7"/>
          <p:cNvSpPr/>
          <p:nvPr/>
        </p:nvSpPr>
        <p:spPr>
          <a:xfrm>
            <a:off x="3429000" y="914400"/>
            <a:ext cx="1143000" cy="7621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Screen shot 2010-04-29 at 8"/>
          <p:cNvPicPr/>
          <p:nvPr/>
        </p:nvPicPr>
        <p:blipFill>
          <a:blip r:embed="rId2"/>
          <a:stretch/>
        </p:blipFill>
        <p:spPr>
          <a:xfrm>
            <a:off x="762120" y="1289160"/>
            <a:ext cx="7619760" cy="5395680"/>
          </a:xfrm>
          <a:prstGeom prst="rect">
            <a:avLst/>
          </a:prstGeom>
          <a:ln cap="sq" w="57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457200" y="2590920"/>
          <a:ext cx="4038480" cy="18572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a (µ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AND G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7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Half Ad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7.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Full Ad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69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54.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 txBox="1"/>
          <p:nvPr/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ela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6.75 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rea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554.16 µ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Energ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531 pJ/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892160" y="22860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9" name="Rectangle 7"/>
          <p:cNvSpPr/>
          <p:nvPr/>
        </p:nvSpPr>
        <p:spPr>
          <a:xfrm>
            <a:off x="2819520" y="5486400"/>
            <a:ext cx="1143000" cy="6858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coder that used control lines to determine which function should be powered by VD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tivation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28 possible operations occurring in parallel during any given cycle – Lots of wasted pow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sirable to have only the 16 relevant bits calculat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Book Antiqua"/>
              </a:rPr>
              <a:t>VDD = 2.5V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ela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8.95 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rea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649.28 u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Power: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25 pJ/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Metric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3.88 *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 Antiqua"/>
              </a:rPr>
              <a:t>-28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[s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*m*J/op]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Book Antiqua"/>
              </a:rPr>
              <a:t>VDD = 4V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ela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0.05 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rea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649.28 u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Power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389 pJ/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Metric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3.71 *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 Antiqua"/>
              </a:rPr>
              <a:t>-28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[s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*m*J/op]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457200" y="1600200"/>
          <a:ext cx="4038480" cy="4264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a (in μ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A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.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P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/SUB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9.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tion En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.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to1 MU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.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pered Buff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7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49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Circuit (w/o MULT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ela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.83 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rea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649.28 u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Energ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540 pJ/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Book Antiqua"/>
              </a:rPr>
              <a:t>Total Metric: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3.637 * 10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Book Antiqua"/>
              </a:rPr>
              <a:t>-28</a:t>
            </a: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 [s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*m*J]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inimize WC Delay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st Important Metr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iginally 2:1 Ratio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 to 1.5 (in µm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ptimize P:N Ratio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.33 to 1.5 (in µm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lso Reduces Are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5" descr="INV"/>
          <p:cNvPicPr/>
          <p:nvPr/>
        </p:nvPicPr>
        <p:blipFill>
          <a:blip r:embed="rId2"/>
          <a:stretch/>
        </p:blipFill>
        <p:spPr>
          <a:xfrm>
            <a:off x="1023840" y="1600200"/>
            <a:ext cx="290520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892160" y="22860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4" name="Rectangle 7"/>
          <p:cNvSpPr/>
          <p:nvPr/>
        </p:nvSpPr>
        <p:spPr>
          <a:xfrm>
            <a:off x="3581280" y="1523880"/>
            <a:ext cx="1067040" cy="1752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657600" y="5181480"/>
            <a:ext cx="990720" cy="3812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519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CMOS Logic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o Buffers/Inv Input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D Gate: 14.49µ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 Gate: 16.15µ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6AND+16OR=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490.24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µ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Saves Are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Pass Gate Logic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uffers (+7.66u) and Inverted Inputs (+3.83u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D Gate: 16.82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 Gate: 17.65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6AND+16OR=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551.52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µ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892160" y="15228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0" name="Rectangle 7"/>
          <p:cNvSpPr/>
          <p:nvPr/>
        </p:nvSpPr>
        <p:spPr>
          <a:xfrm>
            <a:off x="3276720" y="3352680"/>
            <a:ext cx="1371600" cy="8384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Mirror Adder Topology"/>
          <p:cNvPicPr/>
          <p:nvPr/>
        </p:nvPicPr>
        <p:blipFill>
          <a:blip r:embed="rId2"/>
          <a:stretch/>
        </p:blipFill>
        <p:spPr>
          <a:xfrm>
            <a:off x="1371600" y="2895480"/>
            <a:ext cx="623880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3" name="TextBox 5"/>
          <p:cNvSpPr/>
          <p:nvPr/>
        </p:nvSpPr>
        <p:spPr>
          <a:xfrm>
            <a:off x="1295280" y="1600200"/>
            <a:ext cx="63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tilizes Kill/Propagate/Generate property of bitwise addition for quick calculation of carry out b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531720" y="2743200"/>
            <a:ext cx="8080560" cy="3200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6" name="TextBox 5"/>
          <p:cNvSpPr/>
          <p:nvPr/>
        </p:nvSpPr>
        <p:spPr>
          <a:xfrm>
            <a:off x="685800" y="1447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o include subtraction functionality, we simply augmented our base adder with extra hardware (17 2:1 MUXes and 9 inverters) to implement two’s complement subt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92160" y="15228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8" name="Rectangle 7"/>
          <p:cNvSpPr/>
          <p:nvPr/>
        </p:nvSpPr>
        <p:spPr>
          <a:xfrm>
            <a:off x="3352680" y="4267080"/>
            <a:ext cx="1295640" cy="7621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2:04:10Z</dcterms:created>
  <dc:creator>Student</dc:creator>
  <dc:description/>
  <dc:language>en-US</dc:language>
  <cp:lastModifiedBy>Student</cp:lastModifiedBy>
  <dcterms:modified xsi:type="dcterms:W3CDTF">2010-04-29T15:36:10Z</dcterms:modified>
  <cp:revision>64</cp:revision>
  <dc:subject/>
  <dc:title>Team XOR</dc:title>
</cp:coreProperties>
</file>